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8426-B254-44B2-B041-B596B913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D2A1-95BE-4A3D-9656-48A34A0D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8EE0-60ED-4EED-B9C3-5F1CA2C2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9CD5-44E4-49DC-BEC3-230E6C6D3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B020-BDAF-40B0-AF33-8F86E5E0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E96-5516-47AF-85EC-3182778C9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0DC7-A7AA-4306-B0A1-252ED5286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909F-2E4E-4641-ACCD-2DB701FB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CA27-E608-4C0D-8A85-C894AB9C0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7AFE-E0F6-45E8-AC30-DAFF10D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3548-8C44-4DB6-9A94-800DE05A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4553-43F4-4961-9996-6498A3FC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BE7B7-C41A-402F-BC88-5DF93D97D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15a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f15a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cc00"/>
                </a:solidFill>
                <a:latin typeface="Gill Sans Ultra Bold"/>
              </a:rPr>
              <a:t>Revision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solidFill>
            <a:srgbClr val="ef15a6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Impact"/>
              </a:rPr>
              <a:t>Allie, Richard, and Mary Cather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ill Sans Ultra Bold"/>
              </a:rPr>
              <a:t>Sentence Variety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ill Sans Ultra Bold"/>
              </a:rPr>
              <a:t>Varying Sentence Beginn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improve the style of your writing by beginning some sentences with introductory words, phrases, and clauses instead of with su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lan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lacrosse team qualified for the state finals.  The players never stopped practicing from the minute they got the ne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tter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The lacrosse team qualified for the state finals. </a:t>
            </a:r>
            <a:r>
              <a:rPr b="1" lang="en-US" sz="2800" spc="-1" strike="noStrike">
                <a:solidFill>
                  <a:srgbClr val="ef15a6"/>
                </a:solidFill>
                <a:latin typeface="Arial"/>
              </a:rPr>
              <a:t>From the minute they got the new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they players never stopped practic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lan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Marion was shy in the classroom.  She came into her own, however, on the stag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tt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Marion was shy in the classroom. 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n the stag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however, she came into her ow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arying Sentence Beginn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 Ultra Bold"/>
              </a:rPr>
              <a:t>Sentence Connec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most everyone watches television.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ut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how many people really know how a television set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Gill Sans Ultra Bold"/>
              </a:rPr>
              <a:t>Apposi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 merchant sailor for ten years, Jim knew every important port in the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Impact"/>
              </a:rPr>
              <a:t>Varying Sentence Beginning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Single-Word Modif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15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5a6"/>
                </a:solidFill>
                <a:latin typeface="Arial"/>
              </a:rPr>
              <a:t>Shivering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, we warmed our chapped hands by the fi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Phrase Modifie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f15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15a6"/>
                </a:solidFill>
                <a:latin typeface="Arial"/>
              </a:rPr>
              <a:t>From the window of the plane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, Richard saw his family waving goodby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Choice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ired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Vivid Word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3200" spc="-1" strike="noStrike">
                <a:solidFill>
                  <a:srgbClr val="6666ff"/>
                </a:solidFill>
                <a:latin typeface="Arial"/>
              </a:rPr>
              <a:t>Cliché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ired word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one that has become vague and bland from overuse. For instance, the wo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eat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s used to describe anything from a sandwich to a Nobel Prize winner. Tired words take the strength from your writing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Vivid words are words that make your paper more interesting. Use vivid words instead of using tired word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ff"/>
                </a:solidFill>
                <a:latin typeface="Arial"/>
              </a:rPr>
              <a:t>A cliché is a tired expression. In other words, it is an expression that is overused. Ex. Clear as crystal, hungry as a horse, a dog’s life, wise as an ow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3:37:04Z</dcterms:created>
  <dc:creator>User</dc:creator>
  <dc:description/>
  <dc:language>en-US</dc:language>
  <cp:lastModifiedBy>User</cp:lastModifiedBy>
  <dcterms:modified xsi:type="dcterms:W3CDTF">2006-10-10T13:40:35Z</dcterms:modified>
  <cp:revision>4</cp:revision>
  <dc:subject/>
  <dc:title>Revision 2</dc:title>
</cp:coreProperties>
</file>